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28.jpeg" ContentType="image/jpeg"/>
  <Override PartName="/ppt/media/image18.png" ContentType="image/png"/>
  <Override PartName="/ppt/media/image7.jpeg" ContentType="image/jpe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F8B0-476D-4DE1-9A75-690B2D19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6CDA-866F-42A8-AFB9-758156EB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45F6-AB7D-45DF-A10A-A1DD25BA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FB2D-674D-497F-AA79-7D154FE1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6526-1960-49C1-806E-61C292D0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A19A-AAAC-4995-B074-DFBF080D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5157-5B3B-4947-841F-7D93ADDF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B5FD-E7ED-4B56-A2CE-236F38D9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E1F1-C513-4EB3-8BE9-537B6A85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43D3-ACF3-44D3-8F24-5F47CE60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F9AD-8CB5-47CE-B4A9-E5C07544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B0ED-B080-48E5-8087-8AC0FD04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47E5-3C3A-4B74-9CB1-44AEE5D9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30AD-0D0E-4E49-AEFA-BE99CA16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F45C-EC18-4F9B-8B38-CFA5FDFD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C1A6-3407-48DF-AF84-4DBB49D9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F45C-6D25-43A1-9BDF-F04C3407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4770-0413-4A6E-B7F3-B7F15DD1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2698-150B-4F1D-BFAF-B5EC0D88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05B8-0459-4A48-B68C-8A81B736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8D4E-76F7-4140-A144-585CC008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CE49-A271-4EC2-95F3-792C2255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F7EB-1C0A-451C-A1FC-24448E36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FD7F-DD4E-4877-AB78-9EA6597F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AEAC-FCCC-43B0-9461-6FB109C9092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F5DF-5D9E-426E-A38B-A10761E93D5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vr.theatre.ntu.edu.tw/fineart/database/chap11/11-03-04x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../My%20Documents/My%20Webs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pochtimes.com/i4/307134154628.jpg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pochtimes.com/i4/307134228628.jpg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g-art.com/include/viewBig_b.php?columnid=20&amp;colid=1986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  <a:ea typeface="標楷體"/>
              </a:rPr>
              <a:t>筆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中鋒   鋒在正中  不偏不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側鋒   正鋒取勁 側鋒取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3789360"/>
            <a:ext cx="22939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  <a:ea typeface="標楷體"/>
              </a:rPr>
              <a:t>大唐中興頌</a:t>
            </a:r>
            <a:r>
              <a:rPr b="1" lang="zh-TW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124000" y="1847880"/>
            <a:ext cx="446400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  <a:ea typeface="標楷體"/>
              </a:rPr>
              <a:t>柳公權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玄祕塔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3789360"/>
            <a:ext cx="2398680" cy="3068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柳公權"/>
          <p:cNvPicPr/>
          <p:nvPr/>
        </p:nvPicPr>
        <p:blipFill>
          <a:blip r:embed="rId2"/>
          <a:stretch/>
        </p:blipFill>
        <p:spPr>
          <a:xfrm>
            <a:off x="3924360" y="0"/>
            <a:ext cx="4143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946240" y="260280"/>
            <a:ext cx="3206880" cy="5616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987640" y="6093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神策軍紀聖德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  <a:ea typeface="標楷體"/>
              </a:rPr>
              <a:t>張猛龍碑</a:t>
            </a:r>
            <a:r>
              <a:rPr b="1" lang="zh-TW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557360"/>
            <a:ext cx="363384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3039840" cy="4411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3110040" cy="4338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6091200" y="1484280"/>
            <a:ext cx="3052800" cy="43927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5105520" y="1341000"/>
            <a:ext cx="403848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  <a:ea typeface="標楷體"/>
              </a:rPr>
              <a:t>宋徽宗</a:t>
            </a:r>
            <a:r>
              <a:rPr b="1" lang="zh-TW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瘦金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宋徽宗"/>
          <p:cNvPicPr/>
          <p:nvPr/>
        </p:nvPicPr>
        <p:blipFill>
          <a:blip r:embed="rId1"/>
          <a:stretch/>
        </p:blipFill>
        <p:spPr>
          <a:xfrm>
            <a:off x="4284720" y="692280"/>
            <a:ext cx="3556080" cy="4752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2685960" cy="3213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宋徽宗的字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4648320" y="1719000"/>
            <a:ext cx="403848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5640" y="5229360"/>
            <a:ext cx="6885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0066"/>
                </a:solidFill>
                <a:latin typeface="Arial"/>
                <a:ea typeface="標楷體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zh-TW" sz="2800" spc="-1" strike="noStrike">
                <a:solidFill>
                  <a:srgbClr val="330066"/>
                </a:solidFill>
                <a:latin typeface="Arial"/>
                <a:ea typeface="標楷體"/>
              </a:rPr>
              <a:t>             </a:t>
            </a:r>
            <a:br>
              <a:rPr sz="2800"/>
            </a:br>
            <a:br>
              <a:rPr sz="2800"/>
            </a:br>
            <a:r>
              <a:rPr b="1" lang="zh-TW" sz="2800" spc="-1" strike="noStrike">
                <a:solidFill>
                  <a:srgbClr val="330066"/>
                </a:solidFill>
                <a:latin typeface="Arial"/>
                <a:ea typeface="標楷體"/>
              </a:rPr>
              <a:t>            </a:t>
            </a:r>
            <a:r>
              <a:rPr b="1" lang="zh-TW" sz="2800" spc="-1" strike="noStrike">
                <a:solidFill>
                  <a:srgbClr val="330066"/>
                </a:solidFill>
                <a:latin typeface="Arial"/>
                <a:ea typeface="標楷體"/>
              </a:rPr>
              <a:t>閨中秋月詩</a:t>
            </a:r>
            <a:r>
              <a:rPr b="1" lang="zh-TW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63640" y="476280"/>
            <a:ext cx="5329440" cy="48243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39640" y="587700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www.npm.gov.tw/dm2001/B/exhibition/calligraphy/C2B000001N_basic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唐朝孫過庭說：「初學分布，但求平正，既知平正，務追險絕，既能險絕，復歸平正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無用之用是為大用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-1189080" y="-1324080"/>
            <a:ext cx="13538160" cy="90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-1395360"/>
            <a:ext cx="9901080" cy="90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  <a:ea typeface="標楷體"/>
              </a:rPr>
              <a:t>筆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逆鋒   反其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回鋒   筆劃終了往回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露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3770280"/>
            <a:ext cx="2347920" cy="3087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284720" y="3789360"/>
            <a:ext cx="28796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341360"/>
            <a:ext cx="597672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628640"/>
            <a:ext cx="583236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  <a:ea typeface="標楷體"/>
              </a:rPr>
              <a:t>筆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懸針、 垂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筆斷意連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疾、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1884240" cy="2776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3860640"/>
            <a:ext cx="2270160" cy="2997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788000" y="3357720"/>
            <a:ext cx="1785960" cy="26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  <a:ea typeface="標楷體"/>
              </a:rPr>
              <a:t>歐陽詢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九成宮醴泉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臥觀名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2092320" cy="2708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251240" y="0"/>
            <a:ext cx="378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  <a:ea typeface="標楷體"/>
              </a:rPr>
              <a:t>虞世南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孔子廟堂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3557520" cy="69264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3716280"/>
            <a:ext cx="2568600" cy="3141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648320" y="4000320"/>
            <a:ext cx="4038480" cy="21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93552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  <a:ea typeface="標楷體"/>
              </a:rPr>
              <a:t>褚遂良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雁塔聖教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3933720"/>
            <a:ext cx="2287440" cy="2924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358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  <a:ea typeface="標楷體"/>
              </a:rPr>
              <a:t>大字陰符經</a:t>
            </a:r>
            <a:r>
              <a:rPr b="1" lang="zh-TW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1197000"/>
            <a:ext cx="44420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  <a:ea typeface="標楷體"/>
              </a:rPr>
              <a:t>顏真卿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顏勤禮碑 </a:t>
            </a:r>
            <a:br>
              <a:rPr sz="2600"/>
            </a:br>
            <a:r>
              <a:rPr b="0" lang="zh-TW" sz="2600" spc="-1" strike="noStrike">
                <a:solidFill>
                  <a:srgbClr val="000000"/>
                </a:solidFill>
                <a:latin typeface="標楷體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顏真卿"/>
          <p:cNvPicPr/>
          <p:nvPr/>
        </p:nvPicPr>
        <p:blipFill>
          <a:blip r:embed="rId1"/>
          <a:stretch/>
        </p:blipFill>
        <p:spPr>
          <a:xfrm>
            <a:off x="7047000" y="2349360"/>
            <a:ext cx="2097000" cy="4508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3500280"/>
            <a:ext cx="2521080" cy="3357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顏真卿"/>
          <p:cNvPicPr/>
          <p:nvPr/>
        </p:nvPicPr>
        <p:blipFill>
          <a:blip r:embed="rId3"/>
          <a:stretch/>
        </p:blipFill>
        <p:spPr>
          <a:xfrm>
            <a:off x="3780000" y="-92160"/>
            <a:ext cx="352584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04:15:12Z</dcterms:created>
  <dc:creator>黃嘉怡</dc:creator>
  <dc:description/>
  <dc:language>en-US</dc:language>
  <cp:lastModifiedBy>黃嘉怡</cp:lastModifiedBy>
  <dcterms:modified xsi:type="dcterms:W3CDTF">2005-10-23T17:56:00Z</dcterms:modified>
  <cp:revision>4</cp:revision>
  <dc:subject/>
  <dc:title>投影片 1</dc:title>
</cp:coreProperties>
</file>